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98D6D-36A4-4A71-A5D5-31E1C1F85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66AF0-4743-40B9-B077-F6A66CE9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E8744-D78A-4E1B-994D-CFB46E18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DBC6A-7569-490B-A8E2-BDDD75479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0D99-BEE2-4152-B1DD-394BA89D0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A1920-2D64-4563-BF0D-5A92FAAF8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C4813-6FD7-4E52-9D70-626878FA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D778-3C10-4C8C-8780-7457EA49B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D68B-78D3-413C-9CB9-FC827D66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1322-4026-4FC9-BECE-E8DFA02C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6D7F-EFEE-4AF9-BFA2-673ADFA5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F67D7-3BD5-4579-9F07-362A5ABFB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DFB4-DAF5-43CC-8933-7F5CA03151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03864"/>
                </a:solidFill>
                <a:latin typeface="Calibri"/>
              </a:rPr>
              <a:t>EGE ÜNİVERSİT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203864"/>
                </a:solidFill>
                <a:latin typeface="Calibri"/>
              </a:rPr>
              <a:t>BİLGİSAYAR VE BİLİŞİM BİLİMLERİ FAKÜLTESİ</a:t>
            </a:r>
            <a:endParaRPr b="0" lang="en-US" sz="22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608960" y="554040"/>
            <a:ext cx="1420920" cy="14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4-11-06T07:30:08Z</dcterms:modified>
  <cp:revision>5</cp:revision>
  <dc:subject/>
  <dc:title>PowerPoint Presentation</dc:title>
</cp:coreProperties>
</file>