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1A13B-7FF3-4A50-BBF0-D6F8CE3EA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9D91F-A64F-4151-A0CA-D655C6EFF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C4040-F202-47A9-B45B-F3D09F89E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BEAE3-51B6-43DA-85D9-E0F549140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59384-A704-49AE-A07E-F3852DF2A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53CA7-3F66-4FCF-B492-E9E12C4BC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6BCC7-139B-4673-8426-4D7CC71BE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FCEAD-93D1-47F7-98C4-5235AF552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C844D-32E0-4CE4-B3F8-A1DC74C2E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6EE0A-0AE4-4A99-9CA5-DFD273DB8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DADA6-D469-44DB-A7F6-DE32AFF9E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44CF3-7438-4E8B-A263-663ED393B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A8777-17D5-46F9-A19D-C263C4411E2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libri"/>
              </a:rPr>
              <a:t>BİLGİSAYAR VE BİLİŞİM BİLİMLERİ FAKÜLTESİ</a:t>
            </a:r>
            <a:endParaRPr b="0" lang="en-US" sz="32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Resim 1" descr=""/>
          <p:cNvPicPr/>
          <p:nvPr/>
        </p:nvPicPr>
        <p:blipFill>
          <a:blip r:embed="rId3"/>
          <a:stretch/>
        </p:blipFill>
        <p:spPr>
          <a:xfrm>
            <a:off x="7824960" y="554040"/>
            <a:ext cx="1238040" cy="123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7:53:35Z</dcterms:created>
  <dc:creator>Microsoft Office User</dc:creator>
  <dc:description/>
  <dc:language>en-US</dc:language>
  <cp:lastModifiedBy>GrafikER</cp:lastModifiedBy>
  <dcterms:modified xsi:type="dcterms:W3CDTF">2024-11-06T07:28:49Z</dcterms:modified>
  <cp:revision>5</cp:revision>
  <dc:subject/>
  <dc:title>PowerPoint Presentation</dc:title>
</cp:coreProperties>
</file>